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EEA-BEE0-49D5-B5E6-451DEA4A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D00-719F-42B2-BA8B-178D17F0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347-14D0-4162-810C-AA1AFD89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620-7533-4363-9FAE-A07762D2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1F5-DCD4-43E0-9460-BC4362C2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D63-CFF9-4EAC-B2EA-7041AC03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6D0-476A-4AE8-89E0-F45159DF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C26-78CA-42C8-96D2-FE36849C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25A-02BE-41E7-AA02-EDB4B132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DC0-EDF8-460C-8C49-5D747DE7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8AF-E535-439A-B461-47CF8CDE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64E-14C6-4638-96DF-004B7993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6D2D-53B4-467B-B561-CDED39C90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9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210400" y="320292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АНАЛИЗА КЛИНИЧКЕ ОДЛУК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КЛИНИЧКА ОДЛУК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1442880" y="2131920"/>
          <a:ext cx="6258240" cy="34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2131920"/>
                    <a:ext cx="625824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Поступак доношења клиничке одлук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На крајевима грана (код петоуглова) треба прво ставити оцену коју пацијент придаје таквом исходу: највећа оцена је 1, а најмања 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дан би било савршено здравље, а 0 смр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ваки исход постоји одређена вероватноћа, коју треба знати из клиничког искуства или, боље, из клиничке литерат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ваки исход затим треба помножити вероватноћу са оценом пације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бијене бројке треба сабрати за све гране које излазе из једног кру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Ако постоји више нивоа грањ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поступак се понавља на сваком нив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Када доносимо одлуку на месту где се налази квадр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онда се руководимо вредностима добијеним за сваки круг који потиче из тог квадр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валидни резултати анализе клиничке одлук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укључене све важне клиничке стратегије и исхо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вероватноће добро утврђ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оцене које би пацијент дао за исходе добро утврђе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испитана осетљивост урађене анализе?(тј. да ли је испитан утицај клинички смислених варијација у вероватноћама и оценама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анализе клиничке одлуке значајни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постоји клинички значајна разлика између терапијских или дијагностичких алтернатив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ће одређени избор терапије или дијагностике и даље бити бољи, ако дође до значајних промена у вероватноћама или оценама исхо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анализе клиничке одлуке могу применити на нашем пацијенту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вероватноће важе за нашег пацијен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оцене исхода вашег пацијента и оне публиковане у анализи клиничке одлуке сличне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kett, David L. et al.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dence-Based Medicine: How to Practice and Teach EBM.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ed. New York: Churchill Livingstone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aus SE, Richardson WS, Glasziou P, Haynes RB. Evidence-based Medicine.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dition, Elsevier,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8:35Z</dcterms:modified>
  <cp:revision>59</cp:revision>
  <dc:subject/>
  <dc:title>Slide 1</dc:title>
</cp:coreProperties>
</file>